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5157-7BFD-4DE3-BFC1-FFA69B2E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97C4-01D7-4AB5-8798-E9D43BCA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0663-F14B-418E-884F-C3B0773A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74AAC-5481-4CD3-AFA1-505B2865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3375-6E21-4C6F-A7E6-F4CDDA38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71FB-0E0C-4F61-8714-C5FB1F5C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8505-5C22-4047-8575-E395A3DB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04BA-465F-4420-BA7F-D4367DEC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A6DB-2F6B-4A57-BA88-CC8C38A6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4643-F5B1-4F5A-B274-70E36277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526A-30D2-4433-9601-002003E6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711C5-34A7-44AB-8A30-52782AA8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180E-A211-4EC6-B039-1B33A282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6C26-A5B5-4EE1-8577-6CFFBD2A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2276-01F7-4376-924D-791B162B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70B1-566F-4E99-828F-AA336876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8D42-F382-4CAB-8CC5-299C03A2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C7F2-9262-4B46-B99E-BA9167C4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DD8C-7A0E-48F9-A22C-A35C2BF8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3357B-3B78-4E34-91B9-0E6DF0AF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1F817-3BDA-4958-85DB-94C45DB9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1988B-7AEE-4A2E-B7BD-63141A93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E4D72-028F-4962-ABFF-2DC99356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7EE6-96F5-49A1-A56E-1D994488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CFD4-99B5-4C8D-AC6E-6D893197155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241D-1705-4DD3-9FD7-FEBA778652C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81080" y="1447200"/>
            <a:ext cx="932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9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Войник Христов не съм ли аз, служещ сега в света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личат ли на мен тогаз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трахът и леността?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2418480"/>
            <a:ext cx="96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За мене подвиг няма л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л' враг да ме грози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ли са ми приятел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ните врази?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36360" y="243756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Ще видя ли блажений край тъй, без да съм борец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ка ли се спечелват ра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града и венец?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36360" y="243756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О, не! Ако ща дял и влас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Царя на вечностт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нес трябва, днес да имам ча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борбата за Хрис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36360" y="243756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5. В Христа вси подвизател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рез Божия благод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бъдат победител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то даже мрат.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5-18T16:00:54Z</dcterms:modified>
  <cp:revision>70</cp:revision>
  <dc:subject/>
  <dc:title>Slide 1</dc:title>
</cp:coreProperties>
</file>